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E7564-6D2B-406D-9483-B5B5A4503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3A22A-EAB0-4DB6-BF5F-94014E43D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5360E-C09A-4D88-A1EB-CCF1C3E67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95B9F-D7BF-44C0-B56D-DFC545F39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8E2FE-9911-452F-B193-04E7C421C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C9EC4-C394-427B-B7A9-65BFAF0AF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6507F-3625-423C-BCEC-78564983E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2BD86-0D9A-4A06-A981-930DA01D3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84CD1-D456-423D-8F83-10CC79D4A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97082-F8CE-4675-9076-B8BEC6FF4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F2222-47C7-42A4-9CC4-5E4F75984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63291-F2A9-4D8D-BB78-A6356A81B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067D7-A2FE-4ED0-99D9-61F39221B821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Belfast Confett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Ciaran Cars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Gloss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68000" y="1341360"/>
            <a:ext cx="3095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fou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labyrint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Balaclava, Raglan, Inkerman, Odess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Sarac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Kremlin-2 mes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Makrolon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fusilla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3492360" y="1341360"/>
            <a:ext cx="5400720" cy="478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fountain; also fo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maz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Belfast streets or landmarks named after famous battles, sieges or military lead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armoured personnel carrier/tan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anti-rocket netting fitted to tank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ransparent synthetic material suitable for vis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burst of gunfi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28T20:58:01Z</dcterms:created>
  <dc:creator>Jane Klima</dc:creator>
  <dc:description/>
  <dc:language>en-US</dc:language>
  <cp:lastModifiedBy>Jane Klima</cp:lastModifiedBy>
  <dcterms:modified xsi:type="dcterms:W3CDTF">2014-11-18T22:15:15Z</dcterms:modified>
  <cp:revision>40</cp:revision>
  <dc:subject/>
  <dc:title>La Belle Dame Sans Merci</dc:title>
</cp:coreProperties>
</file>